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873-6C91-45D5-B651-A4839AE6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06B-D753-42F4-8D05-9414DE26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B11-580F-4556-8DED-4039BAD9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712-A4D6-4804-9744-2AD37073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1E3A-733D-41E8-9F70-8AC420CA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635-C0EE-4B64-B613-BDE13ED2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3865-76DD-4940-80A2-A931289C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D0F3-58E5-4C3B-8D0A-B2E1E61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D8FD-EC37-4D48-9124-0959BCAE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2B20-8E1F-4EC8-8F08-7EF74F85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72DD-57D7-4FBF-82BD-371F4C7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7FD-58B1-4EBF-B328-5276D444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B77C-9A0D-4FC5-B8B8-982C8AC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35E7-B5AE-4953-ADAC-2BF25A7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5707-02F2-4171-9A2C-8082296B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CCF5-2D23-4C43-9310-4E6E581B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6588-CE1C-4A85-A523-4568B8A0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77A-9ACC-4814-B02F-541A2392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588-19D8-4C64-8E50-80D31A58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02D-1C0D-48C9-BC66-2B254251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815-5102-4307-B3F2-3A50FAB7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A80-D6C6-4125-B6DF-8EDC3A04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3A2-89FA-4FC0-93D8-CFA0FE66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063-2F15-42EC-800F-65667F14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4B0-F2DC-477D-98A4-5397A7B12A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5314-B67F-4FA3-A611-3E56726FAB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Математик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ткрытый урок математики в 4 «Б» класс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 программе Л.Г. Петерсон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читель. Липинина О.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БУ Талаканская СОШ №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Рефлексия настро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755640" y="2421000"/>
            <a:ext cx="1873440" cy="187308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3635280" y="2421000"/>
            <a:ext cx="1800360" cy="1873080"/>
          </a:xfrm>
          <a:prstGeom prst="smileyFace">
            <a:avLst>
              <a:gd name="adj" fmla="val -465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6372360" y="2349360"/>
            <a:ext cx="1993680" cy="1851120"/>
          </a:xfrm>
          <a:prstGeom prst="smileyFace">
            <a:avLst>
              <a:gd name="adj" fmla="val 72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учить опорный конспек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Стр. 11 № 7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1 группе стр. 12 № 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флексия настро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971640" y="3284640"/>
            <a:ext cx="1944720" cy="187164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3708360" y="3357720"/>
            <a:ext cx="1873440" cy="1800000"/>
          </a:xfrm>
          <a:prstGeom prst="smileyFace">
            <a:avLst>
              <a:gd name="adj" fmla="val 61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6300720" y="3284640"/>
            <a:ext cx="1943280" cy="1728720"/>
          </a:xfrm>
          <a:prstGeom prst="smileyFace">
            <a:avLst>
              <a:gd name="adj" fmla="val -465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1309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прос                                                            Отв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Одну или несколько долей целого называют:                                а) Доле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б) Дроб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Целым число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Черту дроби понимают как знак действия:                                    а) Умноже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б) Деле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Сложе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) Вычит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Число, записанное над чертой дроби называется: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а) Числител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Знаменател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Знаменатель дроби показывает: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а) На сколько часте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делили цело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Сколько частей взял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Из двух дробей с одинаковыми знаменателями больше та,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а) Числитель больш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которой:                                                                                                б) Числитель меньш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Числители равн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. Из двух дробей с одинаковыми числителями     а) Знаменатели равн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ьше та, у которой: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б) Знаменатель меньш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Знаменатель больш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179280" y="836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0" y="6858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79280" y="836640"/>
            <a:ext cx="0" cy="58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179280" y="6597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8459640" y="836640"/>
            <a:ext cx="0" cy="58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11"/>
          <p:cNvSpPr/>
          <p:nvPr/>
        </p:nvSpPr>
        <p:spPr>
          <a:xfrm flipH="1">
            <a:off x="5435280" y="83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178920" y="2205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7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20"/>
          <p:cNvSpPr/>
          <p:nvPr/>
        </p:nvSpPr>
        <p:spPr>
          <a:xfrm flipH="1">
            <a:off x="178920" y="3860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22"/>
          <p:cNvSpPr/>
          <p:nvPr/>
        </p:nvSpPr>
        <p:spPr>
          <a:xfrm>
            <a:off x="5940360" y="83664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178920" y="472428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25"/>
          <p:cNvSpPr/>
          <p:nvPr/>
        </p:nvSpPr>
        <p:spPr>
          <a:xfrm flipH="1">
            <a:off x="178920" y="5661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26"/>
          <p:cNvSpPr/>
          <p:nvPr/>
        </p:nvSpPr>
        <p:spPr>
          <a:xfrm flipH="1">
            <a:off x="178920" y="1197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7305480" cy="22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Цель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вести правило вычитания дробей с одинаковыми знаменател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913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читание дробей с одинаковыми знаменателя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порный кон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ек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  b       a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b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          n           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1187280" y="29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378000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6084720" y="285264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627280" y="29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076720" y="263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5076720" y="3068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лгоритм вычитания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робей с одинаковыми знаменател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числителя одной дроби вычесть числитель другой дроб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В знаменатель разности записать их общий знаменател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60280"/>
            <a:ext cx="7696080" cy="612144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ы выполнить вычитание дробей с одинаковым знаменателем, нужно из числителя одной дроби вычесть числитель другой дроби, а знаменатель оставить без изменени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Решение примеров с. 10 № 4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……………………………………………………………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8      15     13           60      34      26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2      42    42           81       81      8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lain" startAt="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6     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8       98     9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82692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61928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205092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270036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2700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3132000" y="234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59280" y="2349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5651640" y="234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6156360" y="234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687708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687708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7308720" y="234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755640" y="414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1476360" y="4149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2050920" y="4149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2771640" y="400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2"/>
          <p:cNvSpPr/>
          <p:nvPr/>
        </p:nvSpPr>
        <p:spPr>
          <a:xfrm>
            <a:off x="2771640" y="429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3132000" y="4149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Итог. Рефлексия уро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овите тему уро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выполнить вычитание дробей с одинаковым знаменателе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метьте, с каким настроением вы заканчиваете сегодня ур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0:25:04Z</dcterms:created>
  <dc:creator>Lil VAN</dc:creator>
  <dc:description/>
  <dc:language>en-US</dc:language>
  <cp:lastModifiedBy>User</cp:lastModifiedBy>
  <dcterms:modified xsi:type="dcterms:W3CDTF">2013-01-20T06:36:04Z</dcterms:modified>
  <cp:revision>18</cp:revision>
  <dc:subject/>
  <dc:title>Математика</dc:title>
</cp:coreProperties>
</file>